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8.jpeg" ContentType="image/jpeg"/>
  <Override PartName="/ppt/media/image27.jpeg" ContentType="image/jpeg"/>
  <Override PartName="/ppt/media/image13.wmf" ContentType="image/x-wmf"/>
  <Override PartName="/ppt/media/image12.wmf" ContentType="image/x-wmf"/>
  <Override PartName="/ppt/media/image9.wmf" ContentType="image/x-wmf"/>
  <Override PartName="/ppt/media/image14.wmf" ContentType="image/x-wmf"/>
  <Override PartName="/ppt/media/image3.gif" ContentType="image/gif"/>
  <Override PartName="/ppt/media/image6.png" ContentType="image/png"/>
  <Override PartName="/ppt/media/image31.png" ContentType="image/png"/>
  <Override PartName="/ppt/media/image10.wmf" ContentType="image/x-wmf"/>
  <Override PartName="/ppt/media/image25.jpeg" ContentType="image/jpeg"/>
  <Override PartName="/ppt/media/image32.png" ContentType="image/png"/>
  <Override PartName="/ppt/media/image4.gif" ContentType="image/gif"/>
  <Override PartName="/ppt/media/image1.jpeg" ContentType="image/jpeg"/>
  <Override PartName="/ppt/media/image15.wmf" ContentType="image/x-wmf"/>
  <Override PartName="/ppt/media/image22.jpeg" ContentType="image/jpeg"/>
  <Override PartName="/ppt/media/image8.wmf" ContentType="image/x-wmf"/>
  <Override PartName="/ppt/media/image33.wmf" ContentType="image/x-wmf"/>
  <Override PartName="/ppt/media/image26.jpeg" ContentType="image/jpeg"/>
  <Override PartName="/ppt/media/image30.png" ContentType="image/png"/>
  <Override PartName="/ppt/media/image7.wmf" ContentType="image/x-wmf"/>
  <Override PartName="/ppt/media/image20.jpeg" ContentType="image/jpeg"/>
  <Override PartName="/ppt/media/image5.jpeg" ContentType="image/jpeg"/>
  <Override PartName="/ppt/media/image11.wmf" ContentType="image/x-wmf"/>
  <Override PartName="/ppt/media/image17.jpeg" ContentType="image/jpeg"/>
  <Override PartName="/ppt/media/image23.jpeg" ContentType="image/jpeg"/>
  <Override PartName="/ppt/media/image16.wmf" ContentType="image/x-wmf"/>
  <Override PartName="/ppt/media/image18.jpeg" ContentType="image/jpeg"/>
  <Override PartName="/ppt/media/image19.jpeg" ContentType="image/jpeg"/>
  <Override PartName="/ppt/media/image2.wmf" ContentType="image/x-wmf"/>
  <Override PartName="/ppt/media/image21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ADD-452E-4CCE-A7F4-5AD7AC09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465-8F65-49AA-885A-724BB50C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878-B26C-4B9C-9284-9F003F8B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F2B6-6DD4-4D20-8A5B-61019B7B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643E-76DE-4099-A89A-AF6DFECB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2C7E-4EF8-4B68-BBEA-6B50BA89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9F34-3EB9-4827-A1EA-26C7B87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EC97-0A67-47D1-88D6-3FC6E7E7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BAA9-7869-4313-84B0-9B9DC82F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94DF-1A93-4889-99CA-0640C413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BD95-7FBE-4524-9079-9B3D8843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A00-784B-46A4-A54A-D5C0AC94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E11C-1645-4866-A093-E7F9F919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559A-8199-411D-B2E0-04022056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01C-72C2-48AC-88B0-13C3BFB3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960E-76F3-4390-8A17-DB2B6913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97F3-73DD-43D0-8527-306EE897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356-E158-428E-81AA-C878A79A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EE4E-9D6B-40E3-9ECF-86137C40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9545-BA09-46EB-AC0F-0C0C7AC5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8E2-5113-49D8-94C9-9E02F12A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2289-877A-488F-B9CC-517DED3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19A-0DE1-4C79-B3D5-81F9B44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8B6-987E-4D31-9A28-EC8784D2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2BEE-6524-4A80-B524-D066B587C9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D0D8-1753-416A-AF69-DA4391DB7A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30824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ĂRĂ NICI UN FIR DE AŢ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A ŢESUT ŢURŢURI DE GHEAŢ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CINE-I MEŞTER ISCUSI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imes New Roman"/>
              </a:rPr>
              <a:t>SPUNE, DACĂ AI GHICI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89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Handwriting"/>
              </a:rPr>
              <a:t>GHICI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48520" y="0"/>
          <a:ext cx="19954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8520" y="0"/>
                    <a:ext cx="19954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300720" y="4883040"/>
            <a:ext cx="2843280" cy="1974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767640" y="4613400"/>
            <a:ext cx="2376360" cy="2244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843280" y="4292640"/>
            <a:ext cx="2235240" cy="249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3564000" y="1844640"/>
          <a:ext cx="403380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844640"/>
                    <a:ext cx="403380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11280" y="3284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-1440" y="260280"/>
          <a:ext cx="3217680" cy="482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260280"/>
                    <a:ext cx="321768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059280" y="620640"/>
            <a:ext cx="54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ÎMBRĂCĂM HAINE GROASE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635280" y="1268280"/>
            <a:ext cx="5477040" cy="55897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0" y="26028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VINE MOŞ NICOLA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8200" y="1700280"/>
            <a:ext cx="25750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588000" y="4470480"/>
            <a:ext cx="2556000" cy="2109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187960" y="0"/>
            <a:ext cx="3956040" cy="4005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2920" y="-27000"/>
            <a:ext cx="39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S</a:t>
            </a:r>
            <a:r>
              <a:rPr b="1" lang="ro-RO" sz="4000" spc="-1" strike="noStrike">
                <a:solidFill>
                  <a:srgbClr val="3333ff"/>
                </a:solidFill>
                <a:latin typeface="Times New Roman"/>
              </a:rPr>
              <a:t>ĂRBĂTORIM CRĂCIUNU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2141640"/>
            <a:ext cx="4716360" cy="471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1231920" cy="1297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585800" cy="2016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4067280" y="4557600"/>
            <a:ext cx="2217600" cy="20494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9280" y="1197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B GEAM COLINDATOR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CEP   COLINDUL      LOR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  OAMENI  DE    ZAPAD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U  EI  COLINDA-N    C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81640" y="115920"/>
            <a:ext cx="3762360" cy="486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709640"/>
            <a:ext cx="5148360" cy="5148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620640"/>
            <a:ext cx="41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ŞI ANUL NOU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00720" y="1947960"/>
            <a:ext cx="37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ELUTE   ARGINTII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U INCEPUT SA C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  BUCURA   COP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 HAINA DE ZAP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942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940360" y="907920"/>
            <a:ext cx="3203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IARNA LE ADUCE COPIILOR MULTE BUCURII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00720" y="4181400"/>
            <a:ext cx="284328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97320" cy="4365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4264200"/>
            <a:ext cx="2951280" cy="259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237200" y="1125360"/>
            <a:ext cx="4906800" cy="57326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8360" y="44280"/>
            <a:ext cx="39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SPORTURILE DE IARNĂ SUNT BUCURIA TUTURO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7280" y="3068640"/>
            <a:ext cx="7201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IZATOR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ÎNV.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RNELIA PRIH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ŞCOALA GENERALĂ IERN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404640"/>
            <a:ext cx="2340000" cy="19288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4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87280" y="198900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ffff"/>
                </a:solidFill>
                <a:latin typeface="Times New Roman"/>
              </a:rPr>
              <a:t>IARNA</a:t>
            </a:r>
            <a:endParaRPr b="0" lang="en-US" sz="1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08000" y="1397160"/>
            <a:ext cx="903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-NCEPUT SĂ CEARN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FRIGUROASA IARN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HAI BĂBUŢĂ, C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Times New Roman"/>
              </a:rPr>
              <a:t>SCUTECEL AŞTER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snowyborder.gif (4145 bytes)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00360" y="115920"/>
            <a:ext cx="70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OT E ALB PE C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ÂMP, PE DEALURI, ÎMPREJUR, ÎN DEPĂRTARE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2597040" y="0"/>
          <a:ext cx="65469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7040" y="0"/>
                    <a:ext cx="6546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08000" y="44280"/>
            <a:ext cx="47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INCEPUT SI GERUL 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 APARUT SI VANTU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TELUTE     ARGINTII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COPERA PAMANT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443480" y="1557360"/>
          <a:ext cx="4700520" cy="53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3480" y="1557360"/>
                    <a:ext cx="470052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39640" y="476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SUB P</a:t>
            </a:r>
            <a:r>
              <a:rPr b="1" lang="ro-RO" sz="2800" spc="-1" strike="noStrike">
                <a:solidFill>
                  <a:srgbClr val="3333ff"/>
                </a:solidFill>
                <a:latin typeface="Times New Roman"/>
              </a:rPr>
              <a:t>ĂTURA DE NEA, CÂMPUL ŞI PĂDUREA PAR ÎNCREMENI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693800"/>
          <a:ext cx="5148360" cy="511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693800"/>
                    <a:ext cx="514836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1125360"/>
          <a:ext cx="914400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O, BRAD FRUMOS, O BRAD FRUMO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CETINA TOT VER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0" y="-27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ANIMALELE ŞI PĂSĂRELELE ÎŞI GĂSES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U GREU HRA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059280" y="0"/>
          <a:ext cx="60847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0"/>
                    <a:ext cx="608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-181080" y="205092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COPIII LE OFERĂ AJUTORU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19:32:26Z</dcterms:created>
  <dc:creator>Vasile Prihoi</dc:creator>
  <dc:description/>
  <dc:language>en-US</dc:language>
  <cp:lastModifiedBy>Vasile Prihoi</cp:lastModifiedBy>
  <dcterms:modified xsi:type="dcterms:W3CDTF">2007-02-27T20:04:25Z</dcterms:modified>
  <cp:revision>20</cp:revision>
  <dc:subject/>
  <dc:title>Diapozitivul 1</dc:title>
</cp:coreProperties>
</file>